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2787-5A88-445F-A32D-1D735606F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A834-7069-4246-862A-0E15A3BAE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BA36-9BBB-434B-A688-83AD83574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C349-2BC7-4312-ACE5-6B809561C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64DB-C49F-49CD-BF43-C6CFEC240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9D2C-CBB1-480A-A3DC-4B86C66EE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64EA-E36E-403B-81AF-5369D5E12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0F71-D050-41C8-909E-3BCA9BCDC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93E4-01EC-4B01-8637-AC4DF5D2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AAE1-8A2F-4077-9DD6-CFE97D03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B4AC-8C4D-425F-B61F-9121BAE3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0529-C6AC-49F0-89C2-F9E9D2D2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F2D73E-EDCC-4046-B3F9-91767E0294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ond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cture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1040" y="3780000"/>
            <a:ext cx="228600" cy="218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benita</dc:creator>
  <dc:description/>
  <dc:language>en-US</dc:language>
  <cp:lastModifiedBy>tbenita</cp:lastModifiedBy>
  <cp:revision>0</cp:revision>
  <dc:subject/>
  <dc:title/>
</cp:coreProperties>
</file>