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7469D-3CB9-4CC9-A501-FB06D72E9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47135-0701-42BF-8218-3114DA53D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7706B-B9C8-48C5-A7AD-0FED0BFE2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113CE-ADAD-48C6-94BC-B1D1854A3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092D2-FBD5-4680-9E03-265B6BB4E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5D83D-49D2-4B88-93C1-FC3DD380D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55BEE-93D0-4036-8756-9D0A14000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F770F-24B4-4FAD-BF7E-91F1E077B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A0DB7-DAC4-4E0F-A88F-A4C51F852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42783-C205-474F-9685-051289AF3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A3D59-1F63-4FB3-89A5-E89FE744D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EA204-1196-4906-A19D-8A77B89DB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4900B-E14D-4F7A-821F-2A538E5757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356000" y="3645000"/>
            <a:ext cx="459000" cy="45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1-30T10:21:24Z</dcterms:created>
  <dc:creator>user</dc:creator>
  <dc:description/>
  <dc:language>en-US</dc:language>
  <cp:lastModifiedBy>user</cp:lastModifiedBy>
  <dcterms:modified xsi:type="dcterms:W3CDTF">2017-11-30T10:21:38Z</dcterms:modified>
  <cp:revision>1</cp:revision>
  <dc:subject/>
  <dc:title>Test</dc:title>
</cp:coreProperties>
</file>