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28AC-9209-42FE-8E40-060BDDD12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45E6-7730-4BBE-92BC-C4FAD56C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DE10-F7B8-40BE-8E22-724EC37B6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5CEF-CAD2-4EB5-BCEE-DE150E767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BDD7-25AA-4EE4-BDA5-E522E34B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7834-FBF1-448D-9F80-AA1F741A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4C8F-CAC5-481F-B6F9-E8D34905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12A6-B520-492C-8E3A-32E101C02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15D8-2697-4121-BF79-2E0DDCF8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9038-B083-47DB-9270-A5992C734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F5FF-F561-4F96-A6AF-5F4A4283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30C4-D5C3-481C-A7FE-F5256AA0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73FF-50A1-4DDD-91F7-6218E17AAF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rem Ipsu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6:25:03Z</dcterms:created>
  <dc:creator>Michael McCandless</dc:creator>
  <dc:description/>
  <dc:language>en-US</dc:language>
  <cp:lastModifiedBy>Lukas Graf</cp:lastModifiedBy>
  <dcterms:modified xsi:type="dcterms:W3CDTF">2014-09-01T10:23:50Z</dcterms:modified>
  <cp:revision>2</cp:revision>
  <dc:subject/>
  <dc:title>Slide 1</dc:title>
</cp:coreProperties>
</file>